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76F-FEE8-4862-A64D-25DEDD3E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3D2-85A9-446A-A9AF-77A32BC6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464-A34A-478D-B597-2627D5DF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85B-1024-4595-BD75-3B447425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B92-7948-4A19-A500-D36C6AA4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3DF-DA2F-477D-AD76-E0C1D4BD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E4F-5624-4A6A-81B3-E204B512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295-4EE5-4831-88FC-00710CC4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AC8-C785-4565-851A-DA261949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56A-492B-4864-BBFF-3E89997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BA3-094A-4F81-94AC-53FE6150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686-4551-4E2B-A5E2-A87EA95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CC8E-8BE9-4AC9-9ECA-DA1BB8EAF2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28520"/>
            <a:ext cx="777240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věrečná konference k projektu Zvyšování kvality  sociálních služeb ve Středočeském kra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 4: Vzdělávací aktivity zaměřené na efektivnější řízení pobytových sociálních služeb pro seni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3786120" y="928800"/>
          <a:ext cx="1484280" cy="50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6120" y="928800"/>
                    <a:ext cx="14842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dělení K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ání vrcholového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ání středního a nižšího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ické inspekce kvality v pobytových zařízeních sociálních služeb pro seni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ísemná metod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aměření kur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rzy pro ředite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ažerské dovednosti vrcholového manage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fektivní řízení, týmová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ciálně právní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ividuální plá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ika v sociální prá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rzy pro střední a nižší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ažerské dovednosti na střední a nižší manažerské úro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vní minimum z pracovního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ciálně právní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hodnocení kurzů ředite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říno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ová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unikace a řešení konfli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stémy pobytové pé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í příspěv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řazení kurzu Pracovní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bytek sociálně právní problemati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hodnocení kurzů středního managemen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no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unikace a řešení konfli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ová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ní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ktické manažerské přístu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setkání s kolegy z jiných zařízení a výměna zkušenost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ický ko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6 ředitel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sah kurzů 152 hodin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0 nižších vedoucích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sah 64 hodin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oručení – obrátit poměr rozs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poručení z inspek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ovat cíle pro pracovníky než jako prostředky k dosažení cílů (podporovat rozvoj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vztahu k rodině klienta preferovat zájmy a ochranu práv k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t k dispozici smlouvu s vnitřními pravidly před podpisem smlouvy s kli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ožnit individualizaci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kovat zapojení uživatele do individuálního plán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iktní oddělení zdravotnické dokument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procesu hodnocení zaměstnanců zavést sebe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krizové situace stanovit odpovědné pracovníky za jednotlivá místa (patro) bez ohledu na organizační zař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ískávat nezávislé poznatky od zaměstnanců, brigádníků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t provázaný systém a ne jen ke každému standardu samostatný před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alší pozna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vždy dostatečně vnímán přínos standardů kv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ožnit větší možnost výměny zkušeností pro střední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MC</cp:lastModifiedBy>
  <dcterms:modified xsi:type="dcterms:W3CDTF">2013-06-25T18:46:12Z</dcterms:modified>
  <cp:revision>8</cp:revision>
  <dc:subject/>
  <dc:title>Snímek 1</dc:title>
</cp:coreProperties>
</file>